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1BC-CC81-42DA-85A1-14B4B150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C5C-C80C-4FFC-A7FA-4E01595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49E-4486-416B-ADA0-8AA2499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513-C7C5-4C14-A1F7-03A5E3F0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886-BA51-4650-AA7D-39614272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627-4EF9-464D-8E41-79B8038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22A-478D-43DB-AE26-13ACA9D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D45-3E8E-4A14-9077-FBB6A089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FC5-8F38-43D3-B8D1-4CC7F6EF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4C8-3E86-4D9A-B1C2-37016101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258-7E63-448E-A019-8F22244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472-FF41-4F80-B129-02CD44F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6499-9CD0-4BFD-A5C0-8B20F386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ompounds related to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muscle an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ggression and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 – illegal unless pr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co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s sleep depresses body functions, relieve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ople feel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addictive (phys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oin – illegal – natural (opi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phine, Oxycodone, Oxycontin – legal (prescrib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done – legal – manmade (to replace hero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that slows down or depresses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 what’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”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nscious, stop bre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– legal for 21+,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B, Roofies –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um, barbituates – pr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s (huffing) – legal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3:58:29Z</dcterms:created>
  <dc:creator>Administrator</dc:creator>
  <dc:description/>
  <dc:language>en-US</dc:language>
  <cp:lastModifiedBy>Administrator</cp:lastModifiedBy>
  <dcterms:modified xsi:type="dcterms:W3CDTF">2009-05-14T20:53:57Z</dcterms:modified>
  <cp:revision>4</cp:revision>
  <dc:subject/>
  <dc:title>Narcotics</dc:title>
</cp:coreProperties>
</file>